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F6D-23EE-4BAB-A236-162AC923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12D-CCE4-4C73-834D-22176649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77A-D8F1-4951-8786-5AE08FA6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128-9D69-4270-A7E5-2303C3F7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B74-AE68-4AD1-882B-9DBE669B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8C9-F0BF-44EF-91C9-9EA3112B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B78-0A74-4E27-9C3B-1218D834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70B-B3EA-4FAF-9DFB-68F301AB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2C4-D3D0-4D22-AF09-350AEBC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F5F-FED3-4CCC-A977-0AB0597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24B-1D3E-4A77-B944-B4C30B1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D72-FE18-43CD-8CAD-6B922B7B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C125-6654-4B0F-A14D-AB0F915EBD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2009 Meeting with the States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2:00 – 12:30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isplay set up (Mead projects and state highlight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2:30 – 1:15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Lunch (sponsored by Pears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Welcome, Overview, &amp; Introductions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:15 – 1:30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Gr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Rebecca Kline, NECTFL Executive Direc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Laura Franklin, 2009 NECTFL Conference Cha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:30 – 2:00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009 Conference information – Laura Frankli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Engaging Communities: The World is Our Classro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Global Exchange present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010 Conference preview – Jaya Vijayasek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Simply Irresistible: People, Programs and Practices that Insp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:00 – 2:45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tate Highlights: One unique element per organiz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:45 – 2:55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Brea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:55 – 3:15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CTFL update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3:15 – 4:30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Round table working ses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Reporting out / next steps: what will come of this for your organiza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4:30 – 4:45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valua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Round Table Working Grou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eporting out – next steps: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hat will come of this for your organiza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eedback from 2008 State Lead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hat participants said they value mo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Networking with colleagues from the 14 organiz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Round table format: small group work on a question followed by large group feedb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Suggestions from 2008 State Lead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hat participants propose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unication between and among the organizations outside of this annual meeting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“How could we communicate and interact and share more during the year?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ossible partnerships – collaborative projects / initiatives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“Charge us with a task for the common good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Suggestions from 2008 State Lead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On logistic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rogram order: allow time to consult with other state leaders </a:t>
            </a:r>
            <a:r>
              <a:rPr b="0" i="1" lang="en-US" sz="3200" spc="-1" strike="noStrike">
                <a:solidFill>
                  <a:srgbClr val="1f497d"/>
                </a:solidFill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the organizations’ highligh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s year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One unique element per organization: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jot down questions you may have for colleag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irculate, discuss, share and problem-solve: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quick discussions, then change partn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2009 State Leaders’ Surve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nking across the 14 organizations within the NECTFL, are there common goals and needs among our organizations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mong those goals and needs, what are your organization’s top three priorities?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ree clear items at the top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dvoca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rofessional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Recruitment of new members to the organ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2009 State Leaders’ Surve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f you were to collaborate with another state organization:  Who would your logical partners (organizations/associations) be?  What types of activities might you engage i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Joint confer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Joint PD offer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2009 State Leaders’ Surve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hat professional development topics are most pressing at this tim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ifferenti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ssess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structional Meth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iculum Desig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2009 State Leaders’ Surve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Underserved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Geographical ar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Underserved popul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K-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Less Commonly Taught Languages (LCT’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ost-secondary instruc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Round Table Working Grou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ossible partnerships / collabor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could we do </a:t>
            </a:r>
            <a:r>
              <a:rPr b="0" i="1" lang="en-US" sz="2800" spc="-1" strike="noStrike">
                <a:solidFill>
                  <a:srgbClr val="1f497d"/>
                </a:solidFill>
                <a:latin typeface="Calibri"/>
              </a:rPr>
              <a:t>together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etter than alon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51444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dvocacy /  Professional Development / Recrui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51444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Underserved areas / popu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unication between and among our organizations during the ye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method would be most constructiv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NECTFL States page: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ow to keep info updated with leadership change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40:04Z</dcterms:created>
  <dc:creator>Charlotte E. Gifford</dc:creator>
  <dc:description/>
  <dc:language>en-US</dc:language>
  <cp:lastModifiedBy>Charlotte E. Gifford</cp:lastModifiedBy>
  <dcterms:modified xsi:type="dcterms:W3CDTF">2009-05-05T19:10:26Z</dcterms:modified>
  <cp:revision>20</cp:revision>
  <dc:subject/>
  <dc:title>2009 Meeting with the States Agenda</dc:title>
</cp:coreProperties>
</file>